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69DF-AAE6-4258-A75D-C7305539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8375-3994-468C-9A4D-D6C21D54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9E61-EDA7-4557-91D9-92BB538C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5689-A2D0-468A-9FF2-DEA5C8EA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7E63-5230-4BCC-A0A5-8DC87F9C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330E-A604-4D38-8C18-54FCF5AB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D8ED-F915-4679-9E31-87EB6A57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4DF0-81A6-433A-8F11-F2C31B0C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9362-DD62-45E8-BFC0-37C22242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CD87-966A-40E3-87A7-832E408A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23A0-98E3-4770-926E-FB2CB045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A233-D1B2-4264-A1A8-9B62AB0A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EB6E-4045-4192-A6E5-DACB24D09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Mon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18872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of c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w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opla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y get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43400" y="1143000"/>
            <a:ext cx="4038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(uni-cellu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ake it (autotrop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have to find it (heterotrop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pneumoni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3429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ed by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19720" y="2286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(cocc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 (bacill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al (spiril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114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occus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0" y="2286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cc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-60480" y="56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bacillus_bacteria1"/>
          <p:cNvPicPr/>
          <p:nvPr/>
        </p:nvPicPr>
        <p:blipFill>
          <a:blip r:embed="rId1"/>
          <a:stretch/>
        </p:blipFill>
        <p:spPr>
          <a:xfrm>
            <a:off x="-228600" y="-228600"/>
            <a:ext cx="10287000" cy="7709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762120" y="457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cil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u-spiril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457200" y="457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iri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28600" y="53352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MSj03886080000[1].wav" descr=""/>
          <p:cNvPicPr/>
          <p:nvPr/>
        </p:nvPicPr>
        <p:blipFill>
          <a:blip r:embed="rId1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3553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8:35:49Z</dcterms:created>
  <dc:creator>Jean Kavanagh</dc:creator>
  <dc:description/>
  <dc:language>en-US</dc:language>
  <cp:lastModifiedBy>Jean Kavanagh</cp:lastModifiedBy>
  <dcterms:modified xsi:type="dcterms:W3CDTF">2010-05-05T18:43:24Z</dcterms:modified>
  <cp:revision>51</cp:revision>
  <dc:subject/>
  <dc:title>The Uni-Cellular Kingdoms</dc:title>
</cp:coreProperties>
</file>